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18.jpeg" ContentType="image/jpeg"/>
  <Override PartName="/ppt/media/image12.png" ContentType="image/png"/>
  <Override PartName="/ppt/media/image11.png" ContentType="image/png"/>
  <Override PartName="/ppt/media/image6.wmf" ContentType="image/x-wmf"/>
  <Override PartName="/ppt/media/image16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E7FB-EF28-4F5F-90B1-2DAB3824E32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14E8-2DA9-4374-B425-E91C2025B00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80F5-025C-4DFB-A9B2-D7C074FFC14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D83-8671-4464-859E-99ACEBF9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A0A-3ECA-45E4-BB8E-B42F4BE6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E8B-C4E3-48BF-B071-2893BC62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7A44-A923-4F08-B5D1-3D99613F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AF55-1E3C-4C98-82EB-6206243C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75E1-49C7-4FB5-B4BD-A6277AFC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F1B2-45BA-4D19-A343-6FBF1383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8A15-FB09-4B71-9C8C-C79CDD02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7AA6-5962-49EE-A516-2AB78BF5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B53F-CB1A-4900-8F68-865C8494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FC2F-5D28-42E3-ACBF-12542512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671-86B6-4F18-B735-AEA73303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EE9F-1096-41E8-8272-02149FA6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DF93-5B3F-42B4-9510-4B3FDDBA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789D-D2D6-42BA-9349-6FDA3D88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EE51-AFCA-4307-9BC2-32C14EC1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71CA-2E22-463A-B227-443E2875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EAC-F42F-4C28-9110-04AFE5DE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0D1-33C8-44B2-A994-AAF26AE1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D60C-2F2F-4F0F-8934-5FCB1C42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CBC-1796-45D0-9877-4957E3A7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CB5-C52A-4322-8DE2-98534743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076-2D41-4D1B-B273-8145C2BF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7F9-E15A-4351-91B2-D578F605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5ADA-6C9A-4DF2-9658-A3CB5E33167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0438-DBE5-40DA-A1AE-A4791893F6C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066680" y="2228760"/>
            <a:ext cx="72741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Технология развития критического мышления как инструмент формирования предметных и метапредметных универсальных учебных действий на уроках биолог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5670720" y="4869000"/>
            <a:ext cx="3176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одготовил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Манченко И.С.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МБОУ «Ровеньская ООШ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994120" y="6302520"/>
            <a:ext cx="2550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. Ровеньки, 20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08200" y="476280"/>
            <a:ext cx="7792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Муниципальное бюджет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Ровеньская основная общеобразовательная школа Ровеньского района Белгородской област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1187280" y="76500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Инсерт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2" descr="http://900igr.net/datas/filosofija/Razvitie-kriticheskogo-myshlenija/0032-032-Insert-uslovnye-znachki.jpg"/>
          <p:cNvPicPr/>
          <p:nvPr/>
        </p:nvPicPr>
        <p:blipFill>
          <a:blip r:embed="rId1"/>
          <a:srcRect l="10157" t="29171" r="3122" b="4168"/>
          <a:stretch/>
        </p:blipFill>
        <p:spPr>
          <a:xfrm>
            <a:off x="468360" y="2421000"/>
            <a:ext cx="822168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2421000"/>
            <a:ext cx="3600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Концептуальная таблиц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Тема: «Деление клетки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211640" y="2060640"/>
          <a:ext cx="4687920" cy="2773440"/>
        </p:xfrm>
        <a:graphic>
          <a:graphicData uri="http://schemas.openxmlformats.org/drawingml/2006/table">
            <a:tbl>
              <a:tblPr/>
              <a:tblGrid>
                <a:gridCol w="1523880"/>
                <a:gridCol w="1814760"/>
                <a:gridCol w="13492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т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й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л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аствующие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2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  <p:sp>
        <p:nvSpPr>
          <p:cNvPr id="170" name="TextBox 1"/>
          <p:cNvSpPr/>
          <p:nvPr/>
        </p:nvSpPr>
        <p:spPr>
          <a:xfrm>
            <a:off x="1238400" y="620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Составление таблиц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35" descr="C:\Users\user\Desktop\Meiosis_Stages_-_Numerical_Version.svg.png"/>
          <p:cNvPicPr/>
          <p:nvPr/>
        </p:nvPicPr>
        <p:blipFill>
          <a:blip r:embed="rId1"/>
          <a:stretch/>
        </p:blipFill>
        <p:spPr>
          <a:xfrm>
            <a:off x="554040" y="4941720"/>
            <a:ext cx="8050320" cy="18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1095480" y="620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Синквейн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998640" y="2071800"/>
            <a:ext cx="725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Это стихотворение, состоящее из 5 строк, в котором дается большой объем учебной информации в кратких выражениях, что позволяет описывать и рефлексировать по определенному повод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55480" y="3716280"/>
          <a:ext cx="8136000" cy="2549520"/>
        </p:xfrm>
        <a:graphic>
          <a:graphicData uri="http://schemas.openxmlformats.org/drawingml/2006/table">
            <a:tbl>
              <a:tblPr/>
              <a:tblGrid>
                <a:gridCol w="4184640"/>
                <a:gridCol w="3951360"/>
              </a:tblGrid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 слово, обычно существительное или местоим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и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а слова, чаще всего прилагательные или причас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ресная, значим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и глагола или иные глагольные фо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крывает, изучает, экспериментир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раза из четырех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могает понять живую прир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 слово, которое характеризует суть предмета или объ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111276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Фишбоун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465120" y="2060640"/>
            <a:ext cx="8352000" cy="43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1235160" y="47628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Тонкие» и «Толстые» вопрос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9280" y="2060640"/>
          <a:ext cx="8785440" cy="2384280"/>
        </p:xfrm>
        <a:graphic>
          <a:graphicData uri="http://schemas.openxmlformats.org/drawingml/2006/table">
            <a:tbl>
              <a:tblPr/>
              <a:tblGrid>
                <a:gridCol w="4407120"/>
                <a:gridCol w="4378320"/>
              </a:tblGrid>
              <a:tr h="24372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Толстые» во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Тонкие» во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87080"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ма «Передвижение веществ у растений» - 6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87080"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обрезку деревьев нежелательно проводить весной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такое ситовидные трубки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0440"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к доказать, что вода и минеральные соли перемещаются в стебле по древесин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располагаются сосуд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0440"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хлоропласты внутри клетки всё время находятся в движении, даже ночью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 какой ткани относятся сосуды и ситовидные трубки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179" name="Picture 2" descr="http://ru.static.z-dn.net/files/db6/b18b647e62eb964986bb355441b5e997.jpg"/>
          <p:cNvPicPr/>
          <p:nvPr/>
        </p:nvPicPr>
        <p:blipFill>
          <a:blip r:embed="rId1"/>
          <a:srcRect l="22657" t="19795" r="10157" b="9375"/>
          <a:stretch/>
        </p:blipFill>
        <p:spPr>
          <a:xfrm>
            <a:off x="2668680" y="4613400"/>
            <a:ext cx="418932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extBox 2" descr=""/>
          <p:cNvPicPr/>
          <p:nvPr/>
        </p:nvPicPr>
        <p:blipFill>
          <a:blip r:embed="rId1"/>
          <a:stretch/>
        </p:blipFill>
        <p:spPr>
          <a:xfrm>
            <a:off x="1262160" y="2419200"/>
            <a:ext cx="676584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539640" y="2060640"/>
            <a:ext cx="8209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уководствуясь новыми государственными документами, важнейшими задачами  начального, основного и среднего образования является формирование не только предметных результатов, но и метапредметных универсальных учебных действий (УУД), обеспечивающих обучающимся умение учиться, способность к самостоятельной работе, а, следовательно, и способность к саморазвитию и самосовершенствовани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1260360" y="189000"/>
            <a:ext cx="66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хнология развития критического мышления (ТРК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E:\Documents\ИВАН\ШКОЛА\КОНКУРСЫ\Учитель года_2023\Фотографии\WFw1FmbtaQ3oJZREJAFKIXtuxM6ggpXIB9t6TGzQ8MTiMVXWAMx9FWTrR3ncYbDsM9D4GixMwrpS4GzLa9DDrGKI.jpg"/>
          <p:cNvPicPr/>
          <p:nvPr/>
        </p:nvPicPr>
        <p:blipFill>
          <a:blip r:embed="rId1"/>
          <a:stretch/>
        </p:blipFill>
        <p:spPr>
          <a:xfrm>
            <a:off x="4284720" y="4365720"/>
            <a:ext cx="3506760" cy="2332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:\Users\user\Desktop\ej_G-odZYCE.jpg"/>
          <p:cNvPicPr/>
          <p:nvPr/>
        </p:nvPicPr>
        <p:blipFill>
          <a:blip r:embed="rId2"/>
          <a:stretch/>
        </p:blipFill>
        <p:spPr>
          <a:xfrm>
            <a:off x="539640" y="5045040"/>
            <a:ext cx="232416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932000" y="1916280"/>
            <a:ext cx="146052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#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931000" y="2924280"/>
            <a:ext cx="302400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критического мышления посредством интерактивного включения обучающихся в образовательный процес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1260360" y="189000"/>
            <a:ext cx="66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хнология развития критического мышления (ТРК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C:\Users\user\Desktop\06.03\Фото_02.jpg"/>
          <p:cNvPicPr/>
          <p:nvPr/>
        </p:nvPicPr>
        <p:blipFill>
          <a:blip r:embed="rId1"/>
          <a:stretch/>
        </p:blipFill>
        <p:spPr>
          <a:xfrm>
            <a:off x="179280" y="2924280"/>
            <a:ext cx="5551560" cy="335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Users\user\Desktop\5eb564aa3441377e55250b4f.jfif"/>
          <p:cNvPicPr/>
          <p:nvPr/>
        </p:nvPicPr>
        <p:blipFill>
          <a:blip r:embed="rId2"/>
          <a:stretch/>
        </p:blipFill>
        <p:spPr>
          <a:xfrm>
            <a:off x="6516720" y="1830240"/>
            <a:ext cx="2438280" cy="10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4292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Критическое мышление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это способность анализировать информацию, задавать вопросы, выявлять причинно-следственные связи, оценивать достоверность данных и формулировать собственные вывод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http://lichnorastu.ru/wp-content/uploads/2015/10/s3992.jpg"/>
          <p:cNvPicPr/>
          <p:nvPr/>
        </p:nvPicPr>
        <p:blipFill>
          <a:blip r:embed="rId1"/>
          <a:stretch/>
        </p:blipFill>
        <p:spPr>
          <a:xfrm>
            <a:off x="1547640" y="2205000"/>
            <a:ext cx="623736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025640" y="11592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хнология развития критического мышления (ТРК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490680" y="3068640"/>
            <a:ext cx="828036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познавательны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анализ, синтез, классификация, выдвижение гипотез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регулятивны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планирование, самоконтроль, оцен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коммуникативны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умение работать в группе, аргументировать свою точку зр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личностны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развитие критического отношения к информации, формирование научного мировоззр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69960" y="1989000"/>
            <a:ext cx="792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ahoma"/>
              </a:rPr>
              <a:t>Формируемые УУД - универсальные учебные действия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755640" y="2205000"/>
            <a:ext cx="2808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1. Стадия вызо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2. Стадия осмысл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3. Стадия рефлекс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1260360" y="189000"/>
            <a:ext cx="66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хнология развития критического мышления (ТРК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21" descr=""/>
          <p:cNvPicPr/>
          <p:nvPr/>
        </p:nvPicPr>
        <p:blipFill>
          <a:blip r:embed="rId1"/>
          <a:stretch/>
        </p:blipFill>
        <p:spPr>
          <a:xfrm>
            <a:off x="539640" y="3587760"/>
            <a:ext cx="849636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320840" y="336960"/>
            <a:ext cx="614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ём «Кластер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«Природные зоны. Лес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Овал 3"/>
          <p:cNvSpPr/>
          <p:nvPr/>
        </p:nvSpPr>
        <p:spPr>
          <a:xfrm>
            <a:off x="3357720" y="1916280"/>
            <a:ext cx="2071440" cy="1110960"/>
          </a:xfrm>
          <a:prstGeom prst="ellipse">
            <a:avLst/>
          </a:prstGeom>
          <a:solidFill>
            <a:srgbClr val="ccf5e3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ahoma"/>
              </a:rPr>
              <a:t>Ле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428760" y="2189160"/>
            <a:ext cx="2143080" cy="566640"/>
          </a:xfrm>
          <a:prstGeom prst="rect">
            <a:avLst/>
          </a:prstGeom>
          <a:solidFill>
            <a:srgbClr val="c7fff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ай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279600" y="3413160"/>
            <a:ext cx="2592720" cy="587520"/>
          </a:xfrm>
          <a:prstGeom prst="rect">
            <a:avLst/>
          </a:prstGeom>
          <a:solidFill>
            <a:srgbClr val="c7fff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ироколиствен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6378480" y="2075040"/>
            <a:ext cx="2100240" cy="568080"/>
          </a:xfrm>
          <a:prstGeom prst="rect">
            <a:avLst/>
          </a:prstGeom>
          <a:solidFill>
            <a:srgbClr val="c7fff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мешан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196920" y="3432240"/>
            <a:ext cx="1206360" cy="571320"/>
          </a:xfrm>
          <a:prstGeom prst="rect">
            <a:avLst/>
          </a:prstGeom>
          <a:solidFill>
            <a:srgbClr val="ffe99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1639800" y="3429000"/>
            <a:ext cx="1344600" cy="571680"/>
          </a:xfrm>
          <a:prstGeom prst="rect">
            <a:avLst/>
          </a:prstGeom>
          <a:solidFill>
            <a:srgbClr val="ffe99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оугольник 9"/>
          <p:cNvSpPr/>
          <p:nvPr/>
        </p:nvSpPr>
        <p:spPr>
          <a:xfrm>
            <a:off x="3254400" y="4508640"/>
            <a:ext cx="1285920" cy="576000"/>
          </a:xfrm>
          <a:prstGeom prst="rect">
            <a:avLst/>
          </a:prstGeom>
          <a:solidFill>
            <a:srgbClr val="ffe99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Прямоугольник 10"/>
          <p:cNvSpPr/>
          <p:nvPr/>
        </p:nvSpPr>
        <p:spPr>
          <a:xfrm>
            <a:off x="4714920" y="4508640"/>
            <a:ext cx="1297080" cy="576000"/>
          </a:xfrm>
          <a:prstGeom prst="rect">
            <a:avLst/>
          </a:prstGeom>
          <a:solidFill>
            <a:srgbClr val="ffe99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оугольник 11"/>
          <p:cNvSpPr/>
          <p:nvPr/>
        </p:nvSpPr>
        <p:spPr>
          <a:xfrm>
            <a:off x="6227640" y="3413160"/>
            <a:ext cx="1273320" cy="587520"/>
          </a:xfrm>
          <a:prstGeom prst="rect">
            <a:avLst/>
          </a:prstGeom>
          <a:solidFill>
            <a:srgbClr val="ffe99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7667640" y="3413160"/>
            <a:ext cx="1284120" cy="587520"/>
          </a:xfrm>
          <a:prstGeom prst="rect">
            <a:avLst/>
          </a:prstGeom>
          <a:solidFill>
            <a:srgbClr val="ffe99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8" name="Прямая со стрелкой 21"/>
          <p:cNvCxnSpPr>
            <a:stCxn id="128" idx="4"/>
          </p:cNvCxnSpPr>
          <p:nvPr/>
        </p:nvCxnSpPr>
        <p:spPr>
          <a:xfrm>
            <a:off x="4394160" y="3027240"/>
            <a:ext cx="110160" cy="40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24"/>
          <p:cNvCxnSpPr>
            <a:stCxn id="131" idx="2"/>
            <a:endCxn id="136" idx="0"/>
          </p:cNvCxnSpPr>
          <p:nvPr/>
        </p:nvCxnSpPr>
        <p:spPr>
          <a:xfrm flipH="1">
            <a:off x="6863760" y="2642760"/>
            <a:ext cx="564120" cy="77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26"/>
          <p:cNvCxnSpPr>
            <a:stCxn id="131" idx="2"/>
            <a:endCxn id="137" idx="0"/>
          </p:cNvCxnSpPr>
          <p:nvPr/>
        </p:nvCxnSpPr>
        <p:spPr>
          <a:xfrm>
            <a:off x="7427880" y="2642760"/>
            <a:ext cx="883440" cy="77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Прямая со стрелкой 28"/>
          <p:cNvCxnSpPr>
            <a:stCxn id="129" idx="2"/>
            <a:endCxn id="132" idx="0"/>
          </p:cNvCxnSpPr>
          <p:nvPr/>
        </p:nvCxnSpPr>
        <p:spPr>
          <a:xfrm flipH="1">
            <a:off x="800280" y="2755440"/>
            <a:ext cx="700200" cy="677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Прямая со стрелкой 30"/>
          <p:cNvCxnSpPr>
            <a:stCxn id="129" idx="2"/>
            <a:endCxn id="133" idx="0"/>
          </p:cNvCxnSpPr>
          <p:nvPr/>
        </p:nvCxnSpPr>
        <p:spPr>
          <a:xfrm>
            <a:off x="1500120" y="2755800"/>
            <a:ext cx="812160" cy="673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Прямая со стрелкой 32"/>
          <p:cNvCxnSpPr>
            <a:stCxn id="130" idx="2"/>
            <a:endCxn id="134" idx="0"/>
          </p:cNvCxnSpPr>
          <p:nvPr/>
        </p:nvCxnSpPr>
        <p:spPr>
          <a:xfrm flipH="1">
            <a:off x="3896640" y="4000320"/>
            <a:ext cx="678600" cy="508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Прямая со стрелкой 34"/>
          <p:cNvCxnSpPr>
            <a:stCxn id="130" idx="2"/>
            <a:endCxn id="135" idx="0"/>
          </p:cNvCxnSpPr>
          <p:nvPr/>
        </p:nvCxnSpPr>
        <p:spPr>
          <a:xfrm>
            <a:off x="4574880" y="4000320"/>
            <a:ext cx="789480" cy="508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Прямая со стрелкой 38"/>
          <p:cNvCxnSpPr>
            <a:stCxn id="128" idx="6"/>
            <a:endCxn id="131" idx="1"/>
          </p:cNvCxnSpPr>
          <p:nvPr/>
        </p:nvCxnSpPr>
        <p:spPr>
          <a:xfrm flipV="1">
            <a:off x="5428800" y="2358360"/>
            <a:ext cx="95004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Прямая со стрелкой 39"/>
          <p:cNvCxnSpPr>
            <a:stCxn id="128" idx="2"/>
            <a:endCxn id="129" idx="3"/>
          </p:cNvCxnSpPr>
          <p:nvPr/>
        </p:nvCxnSpPr>
        <p:spPr>
          <a:xfrm flipH="1">
            <a:off x="2571120" y="2471400"/>
            <a:ext cx="78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7" name="Picture 4" descr="котёнок рыси"/>
          <p:cNvPicPr/>
          <p:nvPr/>
        </p:nvPicPr>
        <p:blipFill>
          <a:blip r:embed="rId1"/>
          <a:stretch/>
        </p:blipFill>
        <p:spPr>
          <a:xfrm>
            <a:off x="1639800" y="4673520"/>
            <a:ext cx="1451160" cy="144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ель-таёжная"/>
          <p:cNvPicPr/>
          <p:nvPr/>
        </p:nvPicPr>
        <p:blipFill>
          <a:blip r:embed="rId2"/>
          <a:stretch/>
        </p:blipFill>
        <p:spPr>
          <a:xfrm>
            <a:off x="196920" y="4673520"/>
            <a:ext cx="1206360" cy="1441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3279600" y="5445000"/>
            <a:ext cx="1260720" cy="1301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4"/>
          <a:stretch/>
        </p:blipFill>
        <p:spPr>
          <a:xfrm>
            <a:off x="4729320" y="5451480"/>
            <a:ext cx="1282680" cy="1295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5"/>
          <a:srcRect l="0" t="0" r="7626" b="0"/>
          <a:stretch/>
        </p:blipFill>
        <p:spPr>
          <a:xfrm>
            <a:off x="7667640" y="4673520"/>
            <a:ext cx="1285920" cy="144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6"/>
          <a:stretch/>
        </p:blipFill>
        <p:spPr>
          <a:xfrm>
            <a:off x="6221520" y="4673520"/>
            <a:ext cx="1272960" cy="1441440"/>
          </a:xfrm>
          <a:prstGeom prst="rect">
            <a:avLst/>
          </a:prstGeom>
          <a:ln w="0">
            <a:noFill/>
          </a:ln>
        </p:spPr>
      </p:pic>
      <p:cxnSp>
        <p:nvCxnSpPr>
          <p:cNvPr id="153" name="Прямая со стрелкой 82"/>
          <p:cNvCxnSpPr>
            <a:stCxn id="133" idx="2"/>
            <a:endCxn id="147" idx="0"/>
          </p:cNvCxnSpPr>
          <p:nvPr/>
        </p:nvCxnSpPr>
        <p:spPr>
          <a:xfrm>
            <a:off x="2312640" y="4000320"/>
            <a:ext cx="52920" cy="673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Прямая со стрелкой 85"/>
          <p:cNvCxnSpPr/>
          <p:nvPr/>
        </p:nvCxnSpPr>
        <p:spPr>
          <a:xfrm>
            <a:off x="796680" y="4000320"/>
            <a:ext cx="1080" cy="673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Прямая со стрелкой 86"/>
          <p:cNvCxnSpPr/>
          <p:nvPr/>
        </p:nvCxnSpPr>
        <p:spPr>
          <a:xfrm>
            <a:off x="6864120" y="4003560"/>
            <a:ext cx="1080" cy="675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" name="Прямая со стрелкой 87"/>
          <p:cNvCxnSpPr/>
          <p:nvPr/>
        </p:nvCxnSpPr>
        <p:spPr>
          <a:xfrm>
            <a:off x="8310240" y="4017960"/>
            <a:ext cx="1080" cy="675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" name="Прямая со стрелкой 88"/>
          <p:cNvCxnSpPr>
            <a:stCxn id="134" idx="2"/>
            <a:endCxn id="149" idx="0"/>
          </p:cNvCxnSpPr>
          <p:nvPr/>
        </p:nvCxnSpPr>
        <p:spPr>
          <a:xfrm>
            <a:off x="3897000" y="5084280"/>
            <a:ext cx="1332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8" name="Прямая со стрелкой 100"/>
          <p:cNvCxnSpPr/>
          <p:nvPr/>
        </p:nvCxnSpPr>
        <p:spPr>
          <a:xfrm>
            <a:off x="5351040" y="5090760"/>
            <a:ext cx="1332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79280" y="2133720"/>
            <a:ext cx="4572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Занятие по теме «Тип плоские черви» можно предложить задание 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«Я утверждаю, что…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Задание 1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. Вам предлагается 9 утверждений, из которых  необходимо выбрать верные. Если вы согласны с утверждением, поставьте во 2 строке знак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«+»,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если нет, то знак «-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1. Все плоские черви - паразит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2. У плоских червей трехслойное тело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3. Плоские черви имеют двустороннюю симметрию тел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4. Промежутки между органами у плоских червей заполнены жидкостью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5. Все плоские черви имеют одинаковую пищеварительную систе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6. Плоские черви дышат всей поверхностью тел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7. Выделительная система плоских червей представлена почкам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8. Нервная система плоских червей диффузная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9. В основном плоские черви - гермафродит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788000" y="2276640"/>
          <a:ext cx="4182840" cy="1812600"/>
        </p:xfrm>
        <a:graphic>
          <a:graphicData uri="http://schemas.openxmlformats.org/drawingml/2006/table">
            <a:tbl>
              <a:tblPr/>
              <a:tblGrid>
                <a:gridCol w="587160"/>
                <a:gridCol w="370080"/>
                <a:gridCol w="369720"/>
                <a:gridCol w="346320"/>
                <a:gridCol w="417240"/>
                <a:gridCol w="419040"/>
                <a:gridCol w="417600"/>
                <a:gridCol w="419040"/>
                <a:gridCol w="417600"/>
                <a:gridCol w="419040"/>
              </a:tblGrid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1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 изучения  тем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28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ле изучения  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61" name="TextBox 1"/>
          <p:cNvSpPr/>
          <p:nvPr/>
        </p:nvSpPr>
        <p:spPr>
          <a:xfrm>
            <a:off x="1403280" y="404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Верные - неверные утверждения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0" descr="C:\Users\user\Desktop\06.03\Вопрос.jpg"/>
          <p:cNvPicPr/>
          <p:nvPr/>
        </p:nvPicPr>
        <p:blipFill>
          <a:blip r:embed="rId1"/>
          <a:stretch/>
        </p:blipFill>
        <p:spPr>
          <a:xfrm>
            <a:off x="5508720" y="4362480"/>
            <a:ext cx="3038400" cy="22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78920" y="2276280"/>
            <a:ext cx="4537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Задание 2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. Составь с учётом здорового образа жизни режим дня обучающегос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1. Занятия в школ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2. Ужин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3. Полдни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4. Подъе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5. Занятия в спортивной школе или кружк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6. Выполнение домашних зада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7. Прогулка на свежем воздух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8. Завтра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9. Свободное врем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10. Утренняя гимнасти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11. Обе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12. Сон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1116000" y="404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Перепутанные логические цепочк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4" descr="F:\Выступление_06.03\06.03\Зарядка.jpg"/>
          <p:cNvPicPr/>
          <p:nvPr/>
        </p:nvPicPr>
        <p:blipFill>
          <a:blip r:embed="rId1"/>
          <a:stretch/>
        </p:blipFill>
        <p:spPr>
          <a:xfrm>
            <a:off x="4740120" y="2924280"/>
            <a:ext cx="4104000" cy="307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5:31:49Z</dcterms:created>
  <dc:creator>vagurina</dc:creator>
  <dc:description/>
  <dc:language>en-US</dc:language>
  <cp:lastModifiedBy>Пользователь</cp:lastModifiedBy>
  <dcterms:modified xsi:type="dcterms:W3CDTF">2025-03-05T05:55:32Z</dcterms:modified>
  <cp:revision>156</cp:revision>
  <dc:subject/>
  <dc:title>Слайд 1</dc:title>
</cp:coreProperties>
</file>